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adi MT Condensed Light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D2E-0D86-4A7F-B840-8FE3230B7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704040"/>
            <a:ext cx="67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0860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70404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08600" y="370404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26360" y="83808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19560" y="83808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70404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26360" y="370404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19560" y="3704040"/>
            <a:ext cx="218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330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08600" y="838080"/>
            <a:ext cx="330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6553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08600" y="838080"/>
            <a:ext cx="330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70404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330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0860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08600" y="370404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8600" y="838080"/>
            <a:ext cx="330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04040"/>
            <a:ext cx="67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ra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badi MT Condensed Ligh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p00640_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38680" cy="382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28191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Writing For </a:t>
            </a:r>
            <a:br>
              <a:rPr sz="4800"/>
            </a:b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Global Market</a:t>
            </a:r>
            <a:endParaRPr b="1" lang="en-US" sz="48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6200" y="51051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ghashri Dalvi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C session in IIT</a:t>
            </a:r>
            <a:endParaRPr b="0" lang="en-US" sz="24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ctober 30, 2004</a:t>
            </a:r>
            <a:endParaRPr b="0" lang="en-US" sz="2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rite Simpl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ds with single meaning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use of same word as noun / verb / adjectiv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 hyphenated word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punctuation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Clarify Terminology  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/ Acronym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at first us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Check Counting Norms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units – 5, 10, 100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ecimal indicator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eparator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 / Imperia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pic>
        <p:nvPicPr>
          <p:cNvPr id="76" name="zero_md_clr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musical_notes_bubbling_md_clr" descr=""/>
          <p:cNvPicPr/>
          <p:nvPr/>
        </p:nvPicPr>
        <p:blipFill>
          <a:blip r:embed="rId2"/>
          <a:stretch/>
        </p:blipFill>
        <p:spPr>
          <a:xfrm>
            <a:off x="7315200" y="5410080"/>
            <a:ext cx="841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Note Sorting Preferences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lphabet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scending / Descending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Chronological sor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orting in Addres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pic>
        <p:nvPicPr>
          <p:cNvPr id="80" name="zeta_md_clr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393840" cy="406440"/>
          </a:xfrm>
          <a:prstGeom prst="rect">
            <a:avLst/>
          </a:prstGeom>
          <a:ln w="0">
            <a:noFill/>
          </a:ln>
        </p:spPr>
      </p:pic>
      <p:pic>
        <p:nvPicPr>
          <p:cNvPr id="81" name="alpha_md_clr" descr=""/>
          <p:cNvPicPr/>
          <p:nvPr/>
        </p:nvPicPr>
        <p:blipFill>
          <a:blip r:embed="rId2"/>
          <a:stretch/>
        </p:blipFill>
        <p:spPr>
          <a:xfrm>
            <a:off x="7620120" y="5715000"/>
            <a:ext cx="4111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Note Date and Time Forma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Using mm/dd OR dd/mm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eparator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/ slash / hyphen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12/24 hour clock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Month in Islamic countri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pic>
        <p:nvPicPr>
          <p:cNvPr id="84" name="grandfather_clock_shadow_md_clr" descr=""/>
          <p:cNvPicPr/>
          <p:nvPr/>
        </p:nvPicPr>
        <p:blipFill>
          <a:blip r:embed="rId1"/>
          <a:stretch/>
        </p:blipFill>
        <p:spPr>
          <a:xfrm>
            <a:off x="8001000" y="5105520"/>
            <a:ext cx="4348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Use Currency Carefully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currency referenc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denomination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local terms like quarter/ dime 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pic>
        <p:nvPicPr>
          <p:cNvPr id="87" name="dollar_md_clr" descr=""/>
          <p:cNvPicPr/>
          <p:nvPr/>
        </p:nvPicPr>
        <p:blipFill>
          <a:blip r:embed="rId1"/>
          <a:stretch/>
        </p:blipFill>
        <p:spPr>
          <a:xfrm>
            <a:off x="8077320" y="5410080"/>
            <a:ext cx="34272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Keep an Eye on Graphics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in graphic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pic>
        <p:nvPicPr>
          <p:cNvPr id="90" name="back_md_clr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Provide White Spac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s siz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tex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s / Idioms / Jargon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Use Stylesheets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formatting  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formatting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Checklis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cise Tex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rolled Vocabular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ulture-neu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ise Tex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written only what I must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used small and direct sentences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mostly used active voice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hat is the Global Marke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ly interconnected marketplac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imited by time zones or national boundari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greater opportunities for growth throughout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understanding and consideration of other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arth_no_clouds_md_clr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08576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manila_folder_open_md_clr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9684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Checklist - mor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ed Vocabular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prepared a glossary?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used one word for one meaning and one meaning for one word?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used correct punctuation?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lture-neutral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avoided idioms/phrases/jargon words specific to the source culture?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stayed away from local references? 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I considered symbols / graphics / currency /sorting / counting?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Test and Validat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ainst controlled vocabular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- Retranslat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rite simple and semi-formal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rify terminology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nderstand audience preferences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eck graphics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vide for formatting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st and Test again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meghashri_dalvi@hotmail.com</a:t>
            </a:r>
            <a:endParaRPr b="0" lang="en-US" sz="20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How big is the Global Marke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50 software companies derive over 50 %  profits from foreign sales and operations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software companies have development centers spread across the globe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-18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2005, about 75% of the 1 billion online community will be non-native English speakers</a:t>
            </a: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hy Consider Global Marke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from several countri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speak different languag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have different cultur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352680"/>
            <a:ext cx="0" cy="12193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800600"/>
            <a:ext cx="6782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badi MT Condensed Light"/>
              </a:rPr>
              <a:t>Content needs loc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rite for Localization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single deliverable 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 for localization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Understand your Audience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fortable with paper or online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from left or right? Horizontal or vertical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Formal?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ed Textually / Graphicall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rite Source Content – Look for 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formal Styl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-compatibility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rite Source Content – Do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one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sentence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list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rite Source Content – Don’t</a:t>
            </a:r>
            <a:endParaRPr b="1" lang="en-US" sz="36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complex sentences 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abbreviation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 for word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32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9:26:04Z</dcterms:created>
  <dc:creator>Meghashri</dc:creator>
  <dc:description/>
  <dc:language>en-US</dc:language>
  <cp:lastModifiedBy>Meghashri</cp:lastModifiedBy>
  <dcterms:modified xsi:type="dcterms:W3CDTF">2004-10-29T06:44:46Z</dcterms:modified>
  <cp:revision>162</cp:revision>
  <dc:subject/>
  <dc:title>Writing For  Global Market</dc:title>
</cp:coreProperties>
</file>